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51C-CDDC-4CF3-9947-2A6CA223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F45-23A0-4584-AEDF-60E2409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ADE-3CFD-4C05-8925-8DA87DFF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683-73BB-4B72-BF2F-EAE43839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A3B-9DDD-4BB4-981E-4C45406F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8A3-595A-419C-A8C6-372362E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9EC-1203-4A18-92AD-E6E8B5E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B31-5D27-410F-BE17-7C1D41F9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D6F-7F0D-4080-9E22-F4851A3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E78-52AF-4941-8683-C5B7203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164-476D-49E2-BD9F-6888646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025-4F35-4D60-A301-86337369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CFD-1709-4482-A0E5-0D19720F6896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troduction / background (Koh Kheng Wah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Jerry way forward (Dirk Didascalou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00 – 11: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rrent project setup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15 – 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status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fine process (tailoring) – Thomas Bartel, Brian Mortensen (WJB 6121, 6909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Milestones for HW/SW/ST (Scrum?? – How to implement in the system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plit in 3 main groups:  HW/MD/PE, SW and 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W: define work packages, feasibility study, IM scenario, contractors, contracts, Scrumm milestone approa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chedule in separate fi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ocation: WJ-C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HW/MD/PE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BOM, suppli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will be determined on Mon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 WJ-B 612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in next slid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: WJ-B 6909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6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hops (LCM1 &amp; 3) (WJB 612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which prototype runs take place where / define handover (TELCO with KlF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 schedule Tuesday (WJ-B 6909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hedule (TA) review and calcula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2:00-13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:00-15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00-15:1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10-17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&amp;D support  and Cradle / Fixture prep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T schedule Wednesday (WJ-B 6909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0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spec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4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4:30 – 17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MD and PE will visit Perlos in BEJ all day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mmary Wednes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clearing (Zeng Yun)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Attendees PL-T, CPM, TPM, PL-SW, PL-MD, PL-HW, PL-BB, PL-LPD, PL-RF, PL-E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Visit in BEJ office from keypad suppliers for MD and P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16:00 - 17:3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15T09:05:02Z</dcterms:modified>
  <cp:revision>120</cp:revision>
  <dc:subject/>
  <dc:title>PowerPoint</dc:title>
</cp:coreProperties>
</file>